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7560-B7BA-48DF-946B-6B173D49F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9235-12EA-48FD-AF11-C9428BAB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DFA8-99B9-44F6-AD85-E9A3A75C7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0885-8E6E-4CF2-8470-0DEEC987D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20C5-D8C8-434C-A14D-0151F580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6980-B456-42A1-AE5A-9C11C4FD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8982-4516-4BF2-A7C0-044CCB5C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DE09-4663-4573-A989-72491295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CD1C-0C15-47FD-85E3-5AEFB6EE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BC87-984B-46D3-9066-ADEB547E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F68C-1612-4431-9603-7959F93F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30A7-6404-464A-BF3B-D0BFD3F5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5594-C0A8-437D-9165-120138AF6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56.webshots.com/156/7/77/50/2435777500076522903pfmhOE_fs.jpg&amp;imgrefurl=http://travel.webshots.com/photo/2435777500076522903pfmhOE&amp;usg=__y-Y0Wu56eOAZRYEMp95AptD3DBc=&amp;h=1200&amp;w=1600&amp;sz=297&amp;hl=en&amp;start=12&amp;sig2=g9J202XjTbL8hLNwsLS3yQ&amp;um=1&amp;tbnid=VxAW462X5E4JOM:&amp;tbnh=113&amp;tbnw=150&amp;ei=QOWOSdnJFJeENfTPjIYL&amp;prev=/images%3Fq%3Dceasaria%2Bisrael%26um%3D1%26hl%3Den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tp.yellowpages.co.il/dsites/erapalace/&#1511;&#1497;&#1505;&#1512;&#1497;&#1492;1.jpg&amp;imgrefurl=http://ftp.yellowpages.co.il/dsites/erapalace/msgview.asp%3Fpagecode%3D1&amp;usg=__CTXu5dxs3uK5U3Q7CBQlxoxfA8g=&amp;h=243&amp;w=324&amp;sz=23&amp;hl=en&amp;start=52&amp;sig2=mQVu_zNGuZP3cwT41vDO0w&amp;tbnid=QQ7-Eri6ztHIdM:&amp;tbnh=89&amp;tbnw=118&amp;ei=-OuOSf_sG4miMvGk_IoL&amp;prev=/images%3Fq%3D%25D7%25A7%25D7%2599%25D7%25A1%25D7%25A8%25D7%2599%25D7%2594%2B%2B%25D7%2594%25D7%2597%25D7%2593%25D7%25A9%25D7%2594%26start%3D42%26hl%3Den%26sa%3DN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images.google.com/imgres?imgurl=http://www.lagur.com/data/files//07/03/12/0.958354001173684882.txt.3137.jpg&amp;imgrefurl=http://www.lagur.com/hebrew/search.php%3Fopr%3Drealtor%26id%3D3137&amp;usg=__Oc9uRj-5FBmCQErmsXVBUu7yNio=&amp;h=450&amp;w=600&amp;sz=62&amp;hl=en&amp;start=33&amp;sig2=j6GBrQeIRS7t1bKkFCFcsA&amp;tbnid=9NnPJlvScjYTGM:&amp;tbnh=101&amp;tbnw=135&amp;ei=kOuOSZboL4HWMYaH-I0L&amp;prev=/images%3Fq%3D%25D7%25A7%25D7%2599%25D7%25A1%25D7%25A8%25D7%2599%25D7%2594%2B%2B%25D7%2594%25D7%2597%25D7%2593%25D7%25A9%25D7%2594%26start%3D21%26hl%3Den%26sa%3DN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anoramio.com/photos/original/3458562.jpg&amp;imgrefurl=http://www.panoramio.com/photo/3458562&amp;usg=__de_UJbQjv7drXAxcg05zxUuILp0=&amp;h=1536&amp;w=2048&amp;sz=409&amp;hl=en&amp;start=1&amp;sig2=MwsFT063U55Pa_4iT-x_Cw&amp;tbnid=Qzmxt3d_EVCVoM:&amp;tbnh=113&amp;tbnw=150&amp;ei=seyOScyTLpLSMfGL8ZIL&amp;prev=/images%3Fq%3Drecanati%2Bmuseum%2Bcesaria%26hl%3Den%26sa%3DX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images.google.com/imgres?imgurl=http://www.imj.org.il/images/resources/press/Lavie.jpg&amp;imgrefurl=http://www.imj.org.il/eng/resources/press/index2003.html&amp;usg=__oaT08WL5Nivc9wehqq6eVmHZdU8=&amp;h=283&amp;w=279&amp;sz=37&amp;hl=en&amp;start=13&amp;sig2=W-ynTMrkRXJwgFUga0JaPg&amp;tbnid=6MvKeJGezFV-eM:&amp;tbnh=114&amp;tbnw=112&amp;ei=Cu2OSfeTOqPeMN7WpJUL&amp;prev=/images%3Fq%3Dmodern%2Bisraeli%2B%2Bart%26hl%3Den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photo.matusiak.org/zweblog/2007/new_kitchen.jpg&amp;imgrefurl=http://dave.matusiak.org/weblog/page/2/&amp;usg=__QEFDjhjSGbKfIBOdwqHImXJ8TdQ=&amp;h=960&amp;w=1280&amp;sz=219&amp;hl=en&amp;start=3&amp;sig2=_BqEX4GJ3l7bNuWpXH_91A&amp;tbnid=DUgKh5dgfHjt1M:&amp;tbnh=113&amp;tbnw=150&amp;ei=3u2OSajDL6X6NK30zIkL&amp;prev=/images%3Fq%3Dnew%2Bkitchen%26hl%3Den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usefilm.com/images/2/4/8/7/2487/636839-medium.jpg&amp;imgrefurl=http://www.usefilm.com/image/636839.html&amp;usg=__N0SudeQ_rzEQXkXy4lLqaNUzzpY=&amp;h=270&amp;w=400&amp;sz=32&amp;hl=en&amp;start=6&amp;sig2=XhWX1-j85txLa7M5Gq8HuQ&amp;tbnid=BzXWAjPtc3qQoM:&amp;tbnh=84&amp;tbnw=124&amp;ei=E-6OScmGO5LgM4D1-IML&amp;prev=/images%3Fq%3Dold%2Bkitchen%26hl%3Den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hotelchandler.com/imge/gallery/shower.jpg&amp;imgrefurl=http://www.coolslice.com/2005_09_18_archive.html&amp;usg=__fyqQfOylT16SBMd9X1ojtxiQlo4=&amp;h=574&amp;w=449&amp;sz=33&amp;hl=en&amp;start=2&amp;sig2=_iPXTqjhe8Jna9MVGsTXBw&amp;tbnid=nTfFpZ8jiepPWM:&amp;tbnh=134&amp;tbnw=105&amp;ei=0u6OScOfF4_aNMjd2IcL&amp;prev=/images%3Fq%3Dshower%26hl%3Den%26sa%3D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reshome.com/wp-content/uploads/2007/09/living-room-furniture5.jpg&amp;imgrefurl=http://freshome.com/tag/inspiration/page/3/&amp;usg=__ihVxtnxSi89aB1gzJ0gmAs8uTNU=&amp;h=342&amp;w=455&amp;sz=26&amp;hl=en&amp;start=2&amp;sig2=p-u-24coOk2Z2RJswziu-Q&amp;tbnid=Flz6G6XMZ14v1M:&amp;tbnh=96&amp;tbnw=128&amp;ei=Ee-OSYP2GYmiMo-mwIwL&amp;prev=/images%3Fq%3Dliving%2B%2Broom%26hl%3Den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goeurope.about.com/library/graphics/gal/london/buckingham_palace_1.jpg&amp;imgrefurl=http://goeurope.about.com/cs/london/l/bl_buckingham_1.htm&amp;usg=__mAxCUYgTkZ-EocNi06pdmgZQ07s=&amp;h=311&amp;w=400&amp;sz=22&amp;hl=en&amp;start=11&amp;sig2=1GbwGbYdH4j7LoXUzilX0w&amp;tbnid=aPGRTGIYWyTBgM:&amp;tbnh=96&amp;tbnw=124&amp;ei=fe-OSf3CNZLgM-D0-IML&amp;prev=/images%3Fq%3Dpalace%26hl%3Den%26sa%3D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s://www.glastonburyus.org/staff/MeyerJ/PublishingImages/roman_augustus2.jpg&amp;imgrefurl=https://www.glastonburyus.org/staff/meyerj&amp;usg=__XwGgu1sT1e2bJlev4dh9y-VW0OM=&amp;h=1142&amp;w=696&amp;sz=152&amp;hl=en&amp;start=2&amp;sig2=DBDbFfS4i6hYOP6Zsu2L6g&amp;um=1&amp;tbnid=WfO5n4S07CqJ8M:&amp;tbnh=150&amp;tbnw=91&amp;ei=9OWOSd_kIaW-MevHvYEL&amp;prev=/images%3Fq%3Daugustus%2B%2Broman%26um%3D1%26hl%3Den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artchive.com/artchive/r/roman/roman_augustus.jpg&amp;imgrefurl=http://www.artchive.com/artchive/R/roman/roman_augustus.jpg.html&amp;usg=__avkuFKPLy8BpBqDSgXb9Rf0xivA=&amp;h=1012&amp;w=613&amp;sz=96&amp;hl=en&amp;start=5&amp;sig2=-6o7MhHrJBGwy2YpTs73Zw&amp;um=1&amp;tbnid=jE7UG_vLl5k1BM:&amp;tbnh=150&amp;tbnw=91&amp;ei=9OWOSd_kIaW-MevHvYEL&amp;prev=/images%3Fq%3Daugustus%2B%2Broman%26um%3D1%26hl%3Den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m/imgres?imgurl=http://www.biblepicturegallery.com/Samples/pa/World/nations/rulers_r/Coin%2520of%2520the%2520Roman%2520emperor%2520Augustus.gif&amp;imgrefurl=http://www.biblepicturegallery.com/Pictures/RomanR/Coin%2520of%2520the%2520Roman%2520emperor%2520Augustus%2520pa.htm&amp;usg=__3X7_SEEbCXjEwoKfaOfjWB43OiU=&amp;h=480&amp;w=640&amp;sz=163&amp;hl=en&amp;start=3&amp;sig2=JS5x9TDVhDG68xgHVdYARw&amp;um=1&amp;tbnid=IW6El68ZnOOXAM:&amp;tbnh=103&amp;tbnw=137&amp;ei=9OWOSd_kIaW-MevHvYEL&amp;prev=/images%3Fq%3Daugustus%2B%2Broman%26um%3D1%26hl%3Den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50.webshots.com/50/4/54/83/520845483wpSTOa_ph.jpg&amp;imgrefurl=http://travel.webshots.com/photo/1520845483046224002wpSTOa&amp;usg=__WiXaHgIePf-BLe49YeTfZmd9oxw=&amp;h=600&amp;w=800&amp;sz=129&amp;hl=en&amp;start=1&amp;sig2=eE85Dw7BzfXqZc0Jz5_ayg&amp;tbnid=_dwisnKkVQD52M:&amp;tbnh=107&amp;tbnw=143&amp;ei=KvGOSb-XC4_aNMXgrIgL&amp;prev=/images%3Fq%3Dana%2Bticho%2Bgarden%26hl%3Den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212.179.31.105/images/uploaded/Ticho%2520house11111.jpg&amp;imgrefurl=http://www.gojerusalem.com/SitePage.aspx%3FsiteID%3D212%26FirstCat%3DNightlife%26SecCat%3DLive_music%26FirstCatVal%3D98%26SecCatVal%3D99%27&amp;usg=__WC4ch9dbIwSIeplFUuUxtgAHbj0=&amp;h=400&amp;w=468&amp;sz=47&amp;hl=en&amp;start=14&amp;sig2=6s_EPVyMbfTF-_kTUncGmQ&amp;tbnid=9SSGqa2cIHf_ZM:&amp;tbnh=109&amp;tbnw=128&amp;ei=KvGOSb-XC4_aNMXgrIgL&amp;prev=/images%3Fq%3Dana%2Bticho%2Bgarden%26hl%3Den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sraeliposters.co.il/gallery/mini/jp-L225.jpg&amp;imgrefurl=http://www.israeliposters.co.il/index.php%3Faction%3Dshow%26list%3Dabc%26PHPSESSID%3D92ea...&amp;usg=__o2PV3GBNHNDnuPdmIKRZ7NqD17Q=&amp;h=150&amp;w=202&amp;sz=7&amp;hl=en&amp;start=6&amp;sig2=og_bd96AZ9O4A2qmXzDnqw&amp;tbnid=NVkDksaGf8yOgM:&amp;tbnh=78&amp;tbnw=105&amp;ei=KvGOSb-XC4_aNMXgrIgL&amp;prev=/images%3Fq%3Dana%2Bticho%2Bgarden%26hl%3Den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sraeliposters.co.il/gallery/mini/jp-L42.jpg&amp;imgrefurl=http://www.israeliposters.co.il/index.php%3Faction%3Dshow%26list%3Dabc%26PHPSESSID%3D92ea...&amp;usg=__e-lcy6nJiadDkfY_P9haXx_Te_s=&amp;h=150&amp;w=96&amp;sz=4&amp;hl=en&amp;start=8&amp;sig2=98XfgIU5wDcAPrYwla1vCw&amp;tbnid=2160maJNtFJ42M:&amp;tbnh=96&amp;tbnw=61&amp;ei=KvGOSb-XC4_aNMXgrIgL&amp;prev=/images%3Fq%3Dana%2Bticho%2Bgarden%26hl%3Den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images.google.com/imgres?imgurl=http://www.mfa.gov.il/NR/rdonlyres/354EAFF3-51E1-435E-9FAE-787DF2CCE3C2/0/MFAJ05lc0.jpg&amp;imgrefurl=http://www.mfa.gov.il/MFA/MFAArchive/1990_1999/1999/4/Ardyn%2520Halter%2520-%2520Loss-%2520Discovery%2520or%2520Art-%2520Israeli%2520Lan&amp;usg=__e-x0iF1GlDdaD6cp8SJlCtVeAfg=&amp;h=63&amp;w=90&amp;sz=6&amp;hl=en&amp;start=10&amp;sig2=OyPdorV4sr3Cuyb3EW4jIg&amp;tbnid=vLKarIYjsaIQnM:&amp;tbnh=55&amp;tbnw=78&amp;ei=KvGOSb-XC4_aNMXgrIgL&amp;prev=/images%3Fq%3Dana%2Bticho%2Bgarden%26hl%3Den" TargetMode="External"/><Relationship Id="rId4" Type="http://schemas.openxmlformats.org/officeDocument/2006/relationships/image" Target="../media/image35.jpeg"/><Relationship Id="rId5" Type="http://schemas.openxmlformats.org/officeDocument/2006/relationships/hyperlink" Target="http://images.google.com/imgres?imgurl=http://www.fineart-store.net/UserFiles/Image/art_tmb_149.jpg&amp;imgrefurl=http://www.fineart-store.net/art_cat_56_Anna%2520Ticho.html&amp;usg=__haKIbMs5cC0SFzMrFcS3rau5iXo=&amp;h=200&amp;w=161&amp;sz=31&amp;hl=en&amp;start=7&amp;sig2=lz4Z09nysj8TVBZgLJzn4w&amp;tbnid=j4NDYnsIRl7wtM:&amp;tbnh=104&amp;tbnw=84&amp;ei=SfKOSd-3MaW-MZvHtYEL&amp;prev=/images%3Fq%3Dana%2Bticho%2Bart%26hl%3Den" TargetMode="External"/><Relationship Id="rId6" Type="http://schemas.openxmlformats.org/officeDocument/2006/relationships/image" Target="../media/image36.jpeg"/><Relationship Id="rId7" Type="http://schemas.openxmlformats.org/officeDocument/2006/relationships/hyperlink" Target="http://images.google.com/imgres?imgurl=http://photos.liveauctioneers.com/houses/fineartbay/1046/0041_1_cat.jpg&amp;imgrefurl=http://www.liveauctioneers.com/catalog/1046&amp;usg=__nmym0ZZMAOag-620cqJFFu6cehE=&amp;h=75&amp;w=60&amp;sz=2&amp;hl=en&amp;start=18&amp;sig2=DqrHrRjHAfVZOcvJF_8xaQ&amp;tbnid=U8-vRJ-3k7vxhM:&amp;tbnh=71&amp;tbnw=57&amp;ei=SfKOSd-3MaW-MZvHtYEL&amp;prev=/images%3Fq%3Dana%2Bticho%2Bart%26hl%3Den" TargetMode="External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s.artnet.com/artwork_images_138686_388002_anna-ticho.jpg&amp;imgrefurl=http://www.artnet.com/artwork/425556641/hills-of-jerusalem.html&amp;usg=__JHUvzRtS7A5EP33VE-EcCG4-Zf8=&amp;h=480&amp;w=588&amp;sz=53&amp;hl=en&amp;start=1&amp;sig2=LQvl_AUreujbe8U_sfTTsw&amp;tbnid=116qCDvuigHNuM:&amp;tbnh=110&amp;tbnw=135&amp;ei=_POOScfpBJLSMdiMqZML&amp;prev=/images%3Fq%3Dana%2Bticho%2Bart%26hl%3Den" TargetMode="External"/><Relationship Id="rId2" Type="http://schemas.openxmlformats.org/officeDocument/2006/relationships/image" Target="../media/image38.jpeg"/><Relationship Id="rId3" Type="http://schemas.openxmlformats.org/officeDocument/2006/relationships/hyperlink" Target="http://images.google.com/imgres?imgurl=http://israelmuseumnews.ios.st/IOS/Users/israelmuseumnews.ios.st/PagesImg/7.jpg&amp;imgrefurl=http://israelmuseumnews.ios.st/Front/Pages/pages.asp%3Fid%3D20458&amp;usg=__n_fJckZoWMyswFZqJv47rq0kpts=&amp;h=243&amp;w=350&amp;sz=42&amp;hl=en&amp;start=8&amp;sig2=5sUX_JZDxa-vRxhwTxFqwg&amp;tbnid=kTBV_QxwNcP8fM:&amp;tbnh=83&amp;tbnw=120&amp;ei=_POOScfpBJLSMdiMqZML&amp;prev=/images%3Fq%3Dana%2Bticho%2Bart%26hl%3Den" TargetMode="External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arm3.static.flickr.com/2106/1654151131_13dd52faf7.jpg&amp;imgrefurl=http://www.flickr.com/photos/15571815%40N08/1654151131/&amp;usg=__ZECjfuucPZsEuditY3Muu8Q4AL4=&amp;h=375&amp;w=500&amp;sz=96&amp;hl=en&amp;start=5&amp;sig2=p5Cfq818M50Be76D0gUJJQ&amp;tbnid=wUo8spritszQ1M:&amp;tbnh=98&amp;tbnw=130&amp;ei=nPSOSdunJoHWMY6H-I0L&amp;prev=/images%3Fq%3Dcaesarea%2Bbeach%26hl%3Den%26sa%3DX" TargetMode="External"/><Relationship Id="rId2" Type="http://schemas.openxmlformats.org/officeDocument/2006/relationships/image" Target="../media/image40.jpeg"/><Relationship Id="rId3" Type="http://schemas.openxmlformats.org/officeDocument/2006/relationships/hyperlink" Target="http://images.google.com/imgres?imgurl=http://images.travelpod.com/users/jmabro/thumbnail.large.2.1198443600.1-eilat-coral-beach-restaurant.jpg&amp;imgrefurl=http://www.travelpod.com/photos/0/Israel/Eilat.html&amp;usg=__9AK8t_ZSgIZ5sSW8bUSpsDxW-Dk=&amp;h=113&amp;w=150&amp;sz=8&amp;hl=en&amp;start=1&amp;sig2=2pmBMZoJdKjg_VrIdxn2kg&amp;tbnid=E3mRQ4S64qnlKM:&amp;tbnh=72&amp;tbnw=96&amp;ei=vPSOSafkBaPeMNzWpJUL&amp;prev=/images%3Fq%3Dcaesarea%2Bbeachrestaurant%26hl%3Den" TargetMode="External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p1.blogger.com/_X8ZLqlYK_7I/RlnfKuewa4I/AAAAAAAAAC8/fgA_GggLxOk/s320/CIMG1040.jpg&amp;imgrefurl=http://english.webster.co.il/2007/05/27/&amp;usg=__Xv94KiwmfLF74iZbISSs8MYvImQ=&amp;h=240&amp;w=320&amp;sz=23&amp;hl=en&amp;start=22&amp;sig2=GtWov7k_PUk4EmB16mMUEQ&amp;tbnid=eX6q7LnKKPtDoM:&amp;tbnh=89&amp;tbnw=118&amp;ei=bfSOSanIBJeENe3O7IUL&amp;prev=/images%3Fq%3Dceasaria%2B%2Bbeach%26start%3D21%26hl%3Den%26sa%3DN" TargetMode="External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qibits.com/Israel05/TravelLogPix/Cesaria-Ruins.jpg&amp;imgrefurl=http://www.qibits.com/Israel05/temple_israel_trip_to_israel-Part3.htm&amp;usg=__tPKeDgo8qW4GG9XOM6vXZrIT16M=&amp;h=306&amp;w=404&amp;sz=21&amp;hl=en&amp;start=3&amp;sig2=YNQQFstIiE_ynpgzMp-NYg&amp;um=1&amp;tbnid=_jsmpjdnCDXmzM:&amp;tbnh=94&amp;tbnw=124&amp;ei=keaOScCLDKW-MevHvYEL&amp;prev=/images%3Fq%3Dcesaria%2Bisrael%26um%3D1%26hl%3Den%26sa%3DX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image40.webshots.com/41/2/62/92/368526292xPmLGX_ph.jpg&amp;imgrefurl=http://travel.webshots.com/photo/1368526292072250883xPmLGX&amp;usg=__SCVnzwNo5QeM70R4E8j-HFLPlsA=&amp;h=600&amp;w=800&amp;sz=68&amp;hl=en&amp;start=5&amp;sig2=Rj3DwQJfSTi6JM8l62Jjsg&amp;um=1&amp;tbnid=Qfe15GHpPjqq0M:&amp;tbnh=107&amp;tbnw=143&amp;ei=keaOScCLDKW-MevHvYEL&amp;prev=/images%3Fq%3Dcesaria%2Bisrael%26um%3D1%26hl%3Den%26sa%3DX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cugogheritage.com/misc/hamletpics/CaesareaMain.jpg&amp;imgrefurl=http://www.scugogheritage.com/misc/hamlets.htm&amp;usg=__Y4tdxtM1LoAwGZMHnABVTpGXJrg=&amp;h=269&amp;w=450&amp;sz=26&amp;hl=en&amp;start=5&amp;sig2=VY7mLggnBvaumKGmqheUnQ&amp;tbnid=TeW01gy0rkxayM:&amp;tbnh=76&amp;tbnw=127&amp;ei=lvWOSZ2eJZLSMfCMqZML&amp;prev=/images%3Fq%3Dcaesarea%2Bbeach%2B%2Bhotel%26hl%3Den" TargetMode="External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arm1.static.flickr.com/85/212244107_511dfc50a1.jpg%3Fv%3D0&amp;imgrefurl=http://flickr.com/photos/59114488%40N00/212244107&amp;usg=__rQMpwkArBRkfSQ1-hsxQgkT6hac=&amp;h=333&amp;w=500&amp;sz=96&amp;hl=en&amp;start=44&amp;sig2=NLDfwebTZTDz2givnWYVXA&amp;um=1&amp;tbnid=kn7J_Km9i7p4lM:&amp;tbnh=87&amp;tbnw=130&amp;ei=_-aOSfqtEKX6NJrzyIkL&amp;prev=/images%3Fq%3Dcesaria%2Bisrael%26start%3D42%26um%3D1%26hl%3Den%26sa%3D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hyperlink" Target="http://images.google.com/imgres?imgurl=http://lh6.ggpht.com/_csKHdvhX7-8/RqU1f3iV8LI/AAAAAAAAASA/j9ZqSePbZ_c/DSC_0650.JPG&amp;imgrefurl=http://picasaweb.google.com/lh/photo/bexT24eT2iNT925fbZhNhQ&amp;usg=__Gb1MQYtZoPhRPSSTEi2enTD2O5Q=&amp;h=1600&amp;w=1064&amp;sz=16&amp;hl=en&amp;start=88&amp;sig2=oIdFVMSTR_Vz5fpaeuILMg&amp;tbnid=LaEhFYd3lFoeiM:&amp;tbnh=150&amp;tbnw=100&amp;ei=9OqOSb2mKKPeMN7WpJUL&amp;prev=/images%3Fq%3Dcesaria%2Bisrael%26start%3D84%26hl%3Den%26sa%3DN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holyexposures.com/wordpress/wp-content/uploads/2008/09/dsc_0118-150x150.jpg&amp;imgrefurl=http://holyexposures.com/wordpress/tag/cesaria/&amp;usg=__M6uGXswYgtTupKkVXSMuOfRghDs=&amp;h=150&amp;w=150&amp;sz=11&amp;hl=en&amp;start=12&amp;sig2=FqrPxRXhcMcYmotNEl_2UA&amp;um=1&amp;tbnid=CkZ5o6p0EiDKsM:&amp;tbnh=96&amp;tbnw=96&amp;ei=UOiOSbmzEKW-MYzJ6YEL&amp;prev=/images%3Fq%3Dcesaria%2Bisrael%2Bamphitheatre%26um%3D1%26hl%3Den%26sa%3D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de/7/7b/Caesarea_Keisarya_Israel_Theater_Datafox.jpg&amp;imgrefurl=http://de.wikipedia.org/wiki/J%25C3%25BCdische_Musik&amp;usg=__TeeFWEYF8S-gVpSIDSmLnedpHxg=&amp;h=225&amp;w=300&amp;sz=81&amp;hl=en&amp;start=10&amp;sig2=eb9pCFaMaTfIOvlu5GiXhA&amp;tbnid=pXE4QTRa21FzOM:&amp;tbnh=87&amp;tbnw=116&amp;ei=A-mOSaTuDpLSMbeMqZML&amp;prev=/images%3Fq%3Dyehuda%2Bpoliker%2Bin%2Bcaesarea%26hl%3Den%26sa%3DX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m/imgres?imgurl=http://www.bmi.com/images/musicworld/b/broza_d_1_500.jpg&amp;imgrefurl=http://www.bmi.com/news/entry/535559&amp;usg=__1aH53rFBMS09-GpBe3tBaFvvgL0=&amp;h=283&amp;w=500&amp;sz=69&amp;hl=en&amp;start=18&amp;sig2=DZdri03-cHk9rt49BGRxHQ&amp;tbnid=NAe-W_bfWCclpM:&amp;tbnh=74&amp;tbnw=130&amp;ei=QumOSdncH6W-MeXHvYEL&amp;prev=/images%3Fq%3Ddavid%2B%2Bbroza%26hl%3Den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google.com/imgres?imgurl=http://i00.rnhh.de/eu/shared-images/rhaps/f/9/7/f/f99b79f7c657ee598d832fd1eab474ad_400x290.jpg&amp;imgrefurl=http://uk.real.com/music/artist/Roberta_Flack/gallery/image/20766/&amp;usg=__GMQBIVjE_LcuC-NhRbz4Gpr1hqE=&amp;h=290&amp;w=400&amp;sz=21&amp;hl=en&amp;start=5&amp;sig2=tEKrlaKDwCkgiaSwYQkDBg&amp;tbnid=r3gZUxh-AzGsZM:&amp;tbnh=90&amp;tbnw=124&amp;ei=jumOSdLOBI_aNMXgrIgL&amp;prev=/images%3Fq%3Droberta%2Bflack%2Bin%2Bisrael%26hl%3Den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argaretmorsetours.com/images/ceasaria.jpg&amp;imgrefurl=http://margaretmorsetours.com/israel.htm&amp;usg=__D4JYl-QQaheVZAK8GILmkEwOu1M=&amp;h=98&amp;w=150&amp;sz=8&amp;hl=en&amp;start=13&amp;sig2=vkMeOxF96yGZvysYYiEEVQ&amp;tbnid=HK7defMEVn5lrM:&amp;tbnh=63&amp;tbnw=96&amp;ei=7umOSfL4NaX6NJ7zyIkL&amp;prev=/images%3Fq%3Dcesaria%2Bisrael%26hl%3Den%26sa%3D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google.com/imgres?imgurl=http://pictures.exploitz.com/Balet-TC-photo-Caracas--_srcgpx10001x15344x13d1f9bae.jpg&amp;imgrefurl=http://www.exploitz.com/pictures/5344/index.php%3Fpix%3D5&amp;usg=__mN8KTX93CDFtbxRfdNWCLD84FZI=&amp;h=527&amp;w=506&amp;sz=48&amp;hl=en&amp;start=1&amp;sig2=gNUmy0-inZjBSou-iH3_vA&amp;tbnid=agtVKsRDGjPgUM:&amp;tbnh=132&amp;tbnw=127&amp;ei=FOqOSb-rNJLSMfGL8ZIL&amp;prev=/images%3Fq%3Dbalet%26hl%3Den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images.google.com/imgres?imgurl=http://www.dreamhouseil.com/Cesaria%2520006.jpg&amp;imgrefurl=http://www.dreamhouseil.com/&amp;usg=__pfkryJlpElh4cWsIGuYc7aSP1_w=&amp;h=768&amp;w=1024&amp;sz=266&amp;hl=en&amp;start=3&amp;sig2=LlIHqZqv0XRs82hrRBU8GQ&amp;tbnid=Mwi5Fa_nkWy1lM:&amp;tbnh=113&amp;tbnw=150&amp;ei=MuuOSfKkB4_aNLnflIgL&amp;prev=/images%3Fq%3Dcesaria%2Bisrael%2B%2Bhouses%26hl%3Den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קיסריה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0000"/>
                </a:solidFill>
                <a:latin typeface="Arial"/>
              </a:rPr>
              <a:t>קיסריה</a:t>
            </a: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עיר 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מיוחדת</a:t>
            </a: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ליד</a:t>
            </a: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3873600"/>
            <a:ext cx="396252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ם יש  רחובות  גדול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תים יפים 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כמו   ארמונו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2163600"/>
            <a:ext cx="5257800" cy="3965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2649600"/>
            <a:ext cx="274320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ומוזיאון  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מיוחד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עם 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ציור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מודרני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19400" cy="3027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1523880"/>
            <a:ext cx="3368520" cy="3429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437440" y="4800600"/>
            <a:ext cx="186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וזיאון רקנטי בקיסריה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51814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ציור מודרני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חזרה:  __ __ __ __   חדש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מטבח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2590920"/>
            <a:ext cx="406728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טבח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ישן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2344680"/>
            <a:ext cx="563868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א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מקלחת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2520" y="1828800"/>
            <a:ext cx="348588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סלון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20574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ה__ __ __ __ __ באנגלי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ארמון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1662120"/>
            <a:ext cx="533412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ה  __ __ __ __ __ בסין /טיבט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ארמון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00400" y="2819520"/>
            <a:ext cx="5448240" cy="3790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52480" y="6248520"/>
            <a:ext cx="15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טלה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את  __ __ __ __ יפה וגדול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גינה</a:t>
            </a: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38280" y="1523880"/>
            <a:ext cx="62103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קיסריה  על  שם אוגוסטוס, קיסר רומא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7480" y="1371600"/>
            <a:ext cx="2206800" cy="3638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2590920"/>
            <a:ext cx="2079720" cy="3429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971800" y="2176560"/>
            <a:ext cx="266688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זאת  __ __ __ __   ליד  בית אנה טיכו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גינה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2209680"/>
            <a:ext cx="4948200" cy="37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גינה  יש  הרב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 _ _ 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עצים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2001960"/>
            <a:ext cx="5715000" cy="48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ה  __ __ __ __  של אנה טיכו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ציור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2209680"/>
            <a:ext cx="5181840" cy="38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לה  __ __ __ __ __ __ של טיכ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ציורים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2133720"/>
            <a:ext cx="1549440" cy="2438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05320" y="2362320"/>
            <a:ext cx="2590560" cy="1827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114800" y="4572000"/>
            <a:ext cx="1415880" cy="1752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353960" y="3581280"/>
            <a:ext cx="2079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בציורים של אנה  טיכו  יש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 _ _ _   של ירושל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הרים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1905120"/>
            <a:ext cx="3429000" cy="2793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3130560"/>
            <a:ext cx="419112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להיות בקיסרי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איזה  כיף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!!!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0" y="2962440"/>
            <a:ext cx="2524320" cy="1903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3200400"/>
            <a:ext cx="3504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נמ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RT   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_ _ _ _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בקיסרי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2189160"/>
            <a:ext cx="4876920" cy="3678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62120" y="1752480"/>
            <a:ext cx="144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עתי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ה  __ __ __ __   בקיסרי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מלון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90920" y="2219400"/>
            <a:ext cx="5638680" cy="4070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090400" y="183996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N  CEASARIA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קיסריה  עיר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 _ _ _ _ _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CIAL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QUE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מיוחדת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657600" y="2133720"/>
            <a:ext cx="548640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בקיסריה  היא עיר  _ _ _ _ _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על שם הקיסר אוגוסטוס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עתיקה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921200" y="1523880"/>
            <a:ext cx="32511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קיסריה  היא  עיר  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עתיק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905120"/>
            <a:ext cx="4572000" cy="3465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3600" y="3098880"/>
            <a:ext cx="259092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ה  __ __ __ __  בקיסריה ב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1914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רחוב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2590920"/>
            <a:ext cx="480060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EXAMPLE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029200" y="609480"/>
            <a:ext cx="343836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   __ __ __ !!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איזה  כיף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038480" y="2376360"/>
            <a:ext cx="4876920" cy="36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יש  שם 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רחובו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קטנ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2089080"/>
            <a:ext cx="54864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ארמון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גדול של הורדוס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515360" cy="5000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7515000" cy="5000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914400" y="1828800"/>
            <a:ext cx="7515360" cy="5000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47920" y="2590920"/>
            <a:ext cx="1828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מפיתאטרון   רומי  בקיסרי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1752480"/>
            <a:ext cx="4191120" cy="4191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143000" y="1905120"/>
            <a:ext cx="28004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באמפיתאטרון יש היום קונצרטים מיוחד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28195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0080" y="4114800"/>
            <a:ext cx="3353040" cy="190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3600" y="1809720"/>
            <a:ext cx="274320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ו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לפעמ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בלט או תאטרון מכל העול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2021040"/>
            <a:ext cx="5410440" cy="3552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05720" y="2286000"/>
            <a:ext cx="1979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ליד קיסריה  ה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עתיק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יש   היום עיר      חדש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2844720" cy="4267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95680" y="2724120"/>
            <a:ext cx="396252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13:58:15Z</dcterms:created>
  <dc:creator>Preferred Customer</dc:creator>
  <dc:description/>
  <dc:language>en-US</dc:language>
  <cp:lastModifiedBy>aschlezinger</cp:lastModifiedBy>
  <dcterms:modified xsi:type="dcterms:W3CDTF">2010-11-02T21:40:07Z</dcterms:modified>
  <cp:revision>2</cp:revision>
  <dc:subject/>
  <dc:title>קיסריה </dc:title>
</cp:coreProperties>
</file>